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48E-1670-4DDE-8DA7-862E7289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5F8-513A-4A40-9A57-572AE0AD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E25-C446-4C39-910E-43D51931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F07-62C8-4E8D-8F2E-A85BFF2D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745-055C-48D6-836A-BBC49789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01A-BFD0-4FF0-A53E-CA68A741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618-DA92-4B08-8F53-D85A4E33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C03-DFC4-4A8A-BA9A-54DB4156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520-9796-494B-AE05-A1B4B8D0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241-0312-4B0B-BF91-C2102E4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EF8-38C9-4F18-A5BB-D63C4FA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793-CA40-4905-B935-1BD5838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FE71-8C7B-4CEF-8DAC-815DA060A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00033145-original_c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14200" y="47772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22268"/>
                </a:solidFill>
                <a:latin typeface="Georgia"/>
              </a:rPr>
              <a:t>9 Мая – День Побе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Великая Отечественная Война? Почему она так называе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дату начала Великой Отечественной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имя Верховного главнокомандующего советских войск в 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о, которое без объявления войны вторглось в пределы нашей Родины 22 июня 1941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од чьим руководством германские войска вторглись на территорию нашего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акое оружие, применяемое в годы ВОВ, называлось ласковым женским имен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Назовите дату окончания 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Какому полководцу народ присвоил почетное звание «Маршал Победы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16360" y="125280"/>
            <a:ext cx="2397240" cy="263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427640" y="3570120"/>
            <a:ext cx="2365200" cy="265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109440" y="115920"/>
            <a:ext cx="227988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7129440" y="115920"/>
            <a:ext cx="2014560" cy="259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142920" y="353052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6881760" y="3546360"/>
            <a:ext cx="2257560" cy="2656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2195640" y="3546360"/>
            <a:ext cx="2043000" cy="266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2435400" y="125280"/>
            <a:ext cx="215100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250920" y="27608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3103560" y="2760840"/>
            <a:ext cx="4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562720" y="2762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8010360" y="27622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809640" y="6149880"/>
            <a:ext cx="4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828880" y="617364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353200" y="6226200"/>
            <a:ext cx="5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7767720" y="620856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95280" y="426960"/>
            <a:ext cx="4154400" cy="5767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94488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2472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500720" y="254160"/>
            <a:ext cx="4255920" cy="612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rcRect l="0" t="0" r="0" b="-17"/>
          <a:stretch/>
        </p:blipFill>
        <p:spPr>
          <a:xfrm>
            <a:off x="250920" y="260280"/>
            <a:ext cx="4128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09135365416b66e2890b991e4e5db572"/>
          <p:cNvPicPr/>
          <p:nvPr/>
        </p:nvPicPr>
        <p:blipFill>
          <a:blip r:embed="rId1"/>
          <a:stretch/>
        </p:blipFill>
        <p:spPr>
          <a:xfrm>
            <a:off x="250920" y="1052640"/>
            <a:ext cx="8424720" cy="5545080"/>
          </a:xfrm>
          <a:prstGeom prst="rect">
            <a:avLst/>
          </a:prstGeom>
          <a:ln w="0">
            <a:noFill/>
          </a:ln>
        </p:spPr>
      </p:pic>
      <p:pic>
        <p:nvPicPr>
          <p:cNvPr id="95" name="Священная война.mp3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Вечер на рейде.mp3" descr=""/>
          <p:cNvPicPr/>
          <p:nvPr/>
        </p:nvPicPr>
        <p:blipFill>
          <a:blip r:embed="rId3"/>
          <a:stretch/>
        </p:blipFill>
        <p:spPr>
          <a:xfrm>
            <a:off x="147636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Лизавета.mp3" descr=""/>
          <p:cNvPicPr/>
          <p:nvPr/>
        </p:nvPicPr>
        <p:blipFill>
          <a:blip r:embed="rId4"/>
          <a:stretch/>
        </p:blipFill>
        <p:spPr>
          <a:xfrm>
            <a:off x="2401920" y="27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Тёмная ночь.mp3" descr=""/>
          <p:cNvPicPr/>
          <p:nvPr/>
        </p:nvPicPr>
        <p:blipFill>
          <a:blip r:embed="rId5"/>
          <a:stretch/>
        </p:blipFill>
        <p:spPr>
          <a:xfrm>
            <a:off x="327672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Огонёк.mp3" descr=""/>
          <p:cNvPicPr/>
          <p:nvPr/>
        </p:nvPicPr>
        <p:blipFill>
          <a:blip r:embed="rId6"/>
          <a:stretch/>
        </p:blipFill>
        <p:spPr>
          <a:xfrm>
            <a:off x="4159080" y="26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Смуглянка.mp3" descr=""/>
          <p:cNvPicPr/>
          <p:nvPr/>
        </p:nvPicPr>
        <p:blipFill>
          <a:blip r:embed="rId7"/>
          <a:stretch/>
        </p:blipFill>
        <p:spPr>
          <a:xfrm>
            <a:off x="4964040" y="2746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Казаки в Берлине.mp3" descr=""/>
          <p:cNvPicPr/>
          <p:nvPr/>
        </p:nvPicPr>
        <p:blipFill>
          <a:blip r:embed="rId8"/>
          <a:stretch/>
        </p:blipFill>
        <p:spPr>
          <a:xfrm>
            <a:off x="5867280" y="281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Катюша.mp3" descr=""/>
          <p:cNvPicPr/>
          <p:nvPr/>
        </p:nvPicPr>
        <p:blipFill>
          <a:blip r:embed="rId9"/>
          <a:stretch/>
        </p:blipFill>
        <p:spPr>
          <a:xfrm>
            <a:off x="6732720" y="281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498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7454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394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1244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817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174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433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83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4400" y="11160"/>
            <a:ext cx="2970360" cy="3341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rcRect l="0" t="0" r="56" b="0"/>
          <a:stretch/>
        </p:blipFill>
        <p:spPr>
          <a:xfrm>
            <a:off x="-87480" y="3352680"/>
            <a:ext cx="3043440" cy="353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6219720" y="11160"/>
            <a:ext cx="2909880" cy="37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3203640" y="137808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5"/>
          <a:stretch/>
        </p:blipFill>
        <p:spPr>
          <a:xfrm>
            <a:off x="6219720" y="3595680"/>
            <a:ext cx="2909880" cy="3262320"/>
          </a:xfrm>
          <a:prstGeom prst="rect">
            <a:avLst/>
          </a:prstGeom>
          <a:ln w="0">
            <a:noFill/>
          </a:ln>
        </p:spPr>
      </p:pic>
      <p:pic>
        <p:nvPicPr>
          <p:cNvPr id="108" name="День Победы.mp3" descr=""/>
          <p:cNvPicPr/>
          <p:nvPr/>
        </p:nvPicPr>
        <p:blipFill>
          <a:blip r:embed="rId6"/>
          <a:stretch/>
        </p:blipFill>
        <p:spPr>
          <a:xfrm>
            <a:off x="426708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2437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ольф Гитл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240000" cy="4908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933720" y="285264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ициатор Второй мировой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Юрий Борисович Леви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2276280"/>
            <a:ext cx="518472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ктор Всесоюзного радио по телевидению и радиовещ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724360" y="1212840"/>
            <a:ext cx="3079800" cy="4925880"/>
          </a:xfrm>
          <a:prstGeom prst="rect">
            <a:avLst/>
          </a:prstGeom>
          <a:ln w="0">
            <a:noFill/>
          </a:ln>
        </p:spPr>
      </p:pic>
      <p:pic>
        <p:nvPicPr>
          <p:cNvPr id="49" name="Голос Ю. Б. Левитана — Объявление о начале войны (www.mixmuz.ru).mp3" descr=""/>
          <p:cNvPicPr/>
          <p:nvPr/>
        </p:nvPicPr>
        <p:blipFill>
          <a:blip r:embed="rId2"/>
          <a:stretch/>
        </p:blipFill>
        <p:spPr>
          <a:xfrm>
            <a:off x="39528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287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осиф Виссарионович Стал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16000" y="1557000"/>
            <a:ext cx="3970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овный главнокомандующий. Во время Великой Отечественной войны он одновременно руководил государственными и военными де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657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ргий Константинович Жу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5640" y="1441080"/>
            <a:ext cx="404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жды герой Советского Союза, Маршал Советского Союза, имеющий орден Суворова 1-й степени и два ордена «Побед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 присвоил почетное звание «Маршал Побед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187960" y="1268280"/>
            <a:ext cx="35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ван Степанович Кон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27280" y="1612440"/>
            <a:ext cx="433044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ующий армией и фронтами, а с 1950 года – зам. министра об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745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дион Яковлевич Малинов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341360"/>
            <a:ext cx="37450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жды Герой Советского Союза, Маршал Советского Союза, обладатель высшего советского ордена «Побе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206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стантин Константинович Рокоссов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219280" y="1844280"/>
            <a:ext cx="3467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самых титулованных военачальников Великой Отечественной войны. Именно ему было доверено командовать Парадом Победы в 1945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95280" y="1503360"/>
            <a:ext cx="44067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имент Ефремович Ворошил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44520" y="1647360"/>
            <a:ext cx="3611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жды герой Советского Союза, Герой Социалистического Труда, с 1935 года – Маршал Советского Сою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924360" y="1255680"/>
            <a:ext cx="47959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6:16:43Z</dcterms:created>
  <dc:creator>Admin</dc:creator>
  <dc:description/>
  <dc:language>en-US</dc:language>
  <cp:lastModifiedBy>user</cp:lastModifiedBy>
  <dcterms:modified xsi:type="dcterms:W3CDTF">2022-03-26T12:51:30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e0000000000010291410207f7000400038000</vt:lpwstr>
  </property>
</Properties>
</file>